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AF7D2-77A4-4D91-8FE0-680C24EB5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EA3A1-E76F-424C-B813-0F4C5F12F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10187-3730-4D96-BF40-E7F713460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249A4-8A73-41AC-83C7-E8F2D4987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3067C-B92F-4B9B-9830-7ED896C12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9AE90-017C-437B-AD63-B743A4C67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461D0-40E6-45E9-A036-A3FE73031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04ACE-9164-49FF-957C-3DBF38CD3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F4DE3-DD55-4F96-9C51-B778E258E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678EF-FF01-4ED9-BB66-BDB47CB98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4F916-0727-4F43-9D9C-414546A43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2492F-AACD-4B0E-BF3B-341BB29CA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F0887-7C61-4132-A4FF-89EC4134C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1A594-C623-4435-A2B3-185E1AD4C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BC7FA-9707-4BA1-BF1F-C273527EA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E0F74-4341-4858-B990-AC1BE9B29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77749-692E-42F1-8FBD-66F0EADE4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50E5C-CCA0-4CCD-AA61-0C985732B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9352D-E213-4BAB-81BA-18B63D614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B18FB-A46B-4FB7-B02F-1096A559F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DD67B-D8C4-46D5-BF3B-4270D9018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CACDF-E1D6-4124-AEE9-54EC2EE58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8A077-1756-4E76-90DE-F597E110E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52DC3-E61D-4CED-BA75-D6642F821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1144B-B52C-4035-8538-69B9ED4231E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06378-E0CC-456F-BA47-25BD2B3595B3}" type="slidenum">
              <a:rPr b="0" lang="sr-Latn-C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1"/>
          <p:cNvSpPr/>
          <p:nvPr/>
        </p:nvSpPr>
        <p:spPr>
          <a:xfrm>
            <a:off x="642960" y="2828880"/>
            <a:ext cx="7715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Исхрана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Правилна исхрана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Увод у школску хигијену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Увод у менталну хигијену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1357200" y="4714920"/>
            <a:ext cx="607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гијена са епидемиологијо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та недеља настав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3"/>
          <p:cNvSpPr/>
          <p:nvPr/>
        </p:nvSpPr>
        <p:spPr>
          <a:xfrm>
            <a:off x="0" y="0"/>
            <a:ext cx="9144000" cy="71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6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ЈАЈА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Јаје је намирница која има велику биолошку вредност и то пре свега због високо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квалитетних беланчевина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(12-13%)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- садрже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све есенцијалне аминокиселине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у одговарајућем односу, а могућност искоришћења је потпуна</a:t>
            </a:r>
            <a:r>
              <a:rPr b="0" lang="sr-Latn-CS" sz="3600" spc="-1" strike="noStrike">
                <a:solidFill>
                  <a:srgbClr val="000000"/>
                </a:solidFill>
                <a:latin typeface="Times New Roman"/>
              </a:rPr>
              <a:t> (100%)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Највише холестерола има у жуманцету (30%)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Жуманце је богато F, Ca i F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 а има и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витамина: А и D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3"/>
          <p:cNvSpPr/>
          <p:nvPr/>
        </p:nvSpPr>
        <p:spPr>
          <a:xfrm>
            <a:off x="0" y="0"/>
            <a:ext cx="9144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 МЛЕКО И МЛЕЧНИ ПРОИЗВОД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У крављем млеку има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8% воде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,5% протеина (80% казеина), лак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албумина, лактглобулина, имуноглобулина и албумина крвног серума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,5-6% масти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инералних материја (Ca, F, K, Na, Mg)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итамина (A, D, E, B grupe, C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3"/>
          <p:cNvSpPr/>
          <p:nvPr/>
        </p:nvSpPr>
        <p:spPr>
          <a:xfrm>
            <a:off x="0" y="0"/>
            <a:ext cx="9144000" cy="74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Times New Roman"/>
              </a:rPr>
              <a:t>3. МАСТИ И УЉ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исхрани људи масти се користе као издвојена хра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(видљиве масти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конзистенцији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зликујемо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врст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добијају се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животињских производа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чне (уља-добијају се из биљак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пореклу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зликујемо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сти животињског порекла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тер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ињска мас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,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сти биљног порекла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ље из семенки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ље из маслина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ргари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ргарин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п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извод добијен из биљних уља посебном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хнологијом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aјчешћe му сe 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ит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ни 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, 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aдржи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 80%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сти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 % воде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ан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асне киселин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285840"/>
            <a:ext cx="8229600" cy="59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lvl="1" marL="591120" indent="0" algn="just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                       </a:t>
            </a:r>
            <a:r>
              <a:rPr b="1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НА ИСХРАНА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591120" indent="0" algn="just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591120" indent="0" algn="just">
              <a:lnSpc>
                <a:spcPct val="7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 један од најзначајнијих чинилаца неопходних за очување и унапређење здравља појединца и целе нације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591120" indent="0" algn="just">
              <a:lnSpc>
                <a:spcPct val="7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91120" indent="0" algn="just">
              <a:lnSpc>
                <a:spcPct val="7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јам </a:t>
            </a:r>
            <a:r>
              <a:rPr b="1" lang="sr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на исхрана</a:t>
            </a:r>
            <a:r>
              <a:rPr b="0" lang="sr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дразумева више аспеката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591120" indent="-591120" algn="just">
              <a:lnSpc>
                <a:spcPct val="7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валитетних намирница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591120" indent="-591120" algn="just">
              <a:lnSpc>
                <a:spcPct val="7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равствено исправне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591120" indent="-591120" algn="just">
              <a:lnSpc>
                <a:spcPct val="7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балансиран унос нутриенса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591120" indent="0" algn="just">
              <a:lnSpc>
                <a:spcPct val="7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591120" indent="0" algn="just">
              <a:lnSpc>
                <a:spcPct val="7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мирнице морају бити квалитетне, одговарајућих особина (</a:t>
            </a:r>
            <a:r>
              <a:rPr b="0" lang="sr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ја, мирис, укус,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</a:t>
            </a:r>
            <a:r>
              <a:rPr b="0" lang="sr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киселост) и здравствено безбедне-не треба да буду загађене штетним агенсима који могу да оштете здравље људи: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91120" indent="0" algn="just">
              <a:lnSpc>
                <a:spcPct val="7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Физичким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91120" indent="0" algn="just">
              <a:lnSpc>
                <a:spcPct val="7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Хемијским</a:t>
            </a:r>
            <a:r>
              <a:rPr b="0" lang="sr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тешким металима, пестицид</a:t>
            </a:r>
            <a:r>
              <a:rPr b="0" lang="sr-R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а, </a:t>
            </a:r>
            <a:r>
              <a:rPr b="0" lang="sr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рмонима, антибиотицима и др.)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91120" indent="0" algn="just">
              <a:lnSpc>
                <a:spcPct val="7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Биолошким</a:t>
            </a:r>
            <a:r>
              <a:rPr b="0" lang="sr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бактеријама, вирусима, паразитима, гљивицама)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591120" indent="0">
              <a:lnSpc>
                <a:spcPct val="7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олепти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 преглед намирниц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ре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ђ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је се изглед намирнице и утвр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ђ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вање одступања од особина нормалног изгледа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глед спољне повр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е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пресека,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стина, еластицитет, боја, мирис, укус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ане примесе(нпр.инсекти, плесни, песак, земља, делови амбала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 и др.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глед паковања намирнице (амбала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 ли је паковање одговарају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ћ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нео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ћ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но или постоје промене облик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глед етикете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декларације)-рок употребе, састав намирнице, произво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ђ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кробиоло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 преглед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ран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1071360"/>
            <a:ext cx="9144000" cy="642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твр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вање бактериоло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е исправности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ране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суство, број и врста бактерија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основу важећег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вилника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а сваку врсту хран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Циљ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њити број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равствено небезбедне хран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кој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е налаз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даји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мет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и узорци се узимају на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ерилан на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, у стерилне судове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терилним прибором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слу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ју да микробиоло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 налаз не одговара захтевима датим Правилником, т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рана с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матра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равствено небезбедном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емијско-физи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 преглед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ран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1642680"/>
            <a:ext cx="8820000" cy="517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твр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ђ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вање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емијског састава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ране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 циљу утвр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ђ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вања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равствене безбеднос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гледом се доказује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Да ли намирница одговара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свом саставу декларацији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ја је одре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ђ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на за ту намирницу и назна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на на омоту намирнице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Да ли намирница одговара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саставу Правилницима о саставу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 не садр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одре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ђ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на хемијска једињења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дитиве, пестициде, хормоне, антибиотике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те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е метале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над коли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а дозвољених Правилницим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мирнице за анализу се узоркују из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оизводњ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омет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Увоз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57200" y="764640"/>
            <a:ext cx="8229600" cy="53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жан аспект правилне исхране, је </a:t>
            </a:r>
            <a:r>
              <a:rPr b="1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бро избалансиран унос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их хранљивих супстанци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беланчевина, масти, угљених хидрата, витамина и минерала, као и оптималан енергетски унос, потребних за задовољење физичких и интелектуалних послова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на исхрана и здравље људи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на исхрана - уравнотежена исхран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рана – комбинација различитих хемијски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риј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кронутријенти (протеини, угљени хидрати,масти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кронутријенти (витамини, минерали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ребе за храно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узрас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физиолошко стањ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физичка активнос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ухрањенос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навике (стил живота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здравствено стањ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специфичнос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94920" y="259920"/>
            <a:ext cx="694836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ПОРУКЕ ЗА ЕНЕРГЕТСКИ УНОС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8000" y="1000080"/>
            <a:ext cx="8567640" cy="574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нергетске потребе сваког појединца зависе од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5280" indent="-380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нергије потребне за одвијање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залног метаболизм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5280" indent="-380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нергије потребне за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ичку активнос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5280" indent="-380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нергије за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фично динамско дејство хран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5280" indent="-380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нергије за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 нових ткива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деца, труднице, дојиље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3"/>
          <p:cNvSpPr/>
          <p:nvPr/>
        </p:nvSpPr>
        <p:spPr>
          <a:xfrm>
            <a:off x="0" y="0"/>
            <a:ext cx="9144000" cy="58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0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НАМИРНИЦЕ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су све оно што се користи као храна и пиће, у пре</a:t>
            </a:r>
            <a:r>
              <a:rPr b="0" lang="sr-RS" sz="4000" spc="-1" strike="noStrike">
                <a:solidFill>
                  <a:srgbClr val="000000"/>
                </a:solidFill>
                <a:latin typeface="Times New Roman"/>
              </a:rPr>
              <a:t>р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ађеном или непрерађеном облику, као и зачини, боје и друге материје које се додају намирницама ради конзервисања, побољшања изгледа, укуса или мириса, обогаћивања и др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рамида исхран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857160"/>
            <a:ext cx="822960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7680" indent="0" algn="just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7680" indent="0" algn="just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7680" indent="-337680" algn="just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нас је у Свету  прихваћен став да исхрану треба планирати у складу са препорукама у ,,Пирамиди исхране,,. Пирамида исхране представља графички приказ свих намирница које треба конзумирати у току дана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7680" indent="0" algn="just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њој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ана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жељна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а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невних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ока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7680" indent="0" algn="just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7680" indent="-33768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у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не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тарице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изводи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тарица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јих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ба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езбедити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-45%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невно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ребне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нергије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7680" indent="-33768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рћа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-25%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ћа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-15%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7680" indent="-33768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лека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лечних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извода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%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7680" indent="-33768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е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со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аја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ба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гуминозе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зграсто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ће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ге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менке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%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7680" indent="-33768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љивих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сноћа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ећера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ткиша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%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7680" indent="0" algn="just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7680"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4" descr="stara piramida text out"/>
          <p:cNvPicPr/>
          <p:nvPr/>
        </p:nvPicPr>
        <p:blipFill>
          <a:blip r:embed="rId1"/>
          <a:stretch/>
        </p:blipFill>
        <p:spPr>
          <a:xfrm>
            <a:off x="1692360" y="0"/>
            <a:ext cx="5607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9"/>
          <p:cNvSpPr/>
          <p:nvPr/>
        </p:nvSpPr>
        <p:spPr>
          <a:xfrm>
            <a:off x="1763640" y="2887560"/>
            <a:ext cx="5977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800" spc="-1" strike="noStrike">
                <a:solidFill>
                  <a:srgbClr val="000000"/>
                </a:solidFill>
                <a:latin typeface="Times New Roman"/>
              </a:rPr>
              <a:t>Школска хигијена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000000"/>
                </a:solidFill>
                <a:latin typeface="Times New Roman"/>
              </a:rPr>
              <a:t>ДЕФИНИЦИЈ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колска хигијена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 научна дисциплина која се бави проучавањем психофизичких карактеристика школске деце и омладине и услова њиховог живота и рада у школ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17000"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796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" fill="hold">
                                          <p:stCondLst>
                                            <p:cond delay="1796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796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" fill="hold">
                                          <p:stCondLst>
                                            <p:cond delay="1796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4"/>
          <p:cNvSpPr/>
          <p:nvPr/>
        </p:nvSpPr>
        <p:spPr>
          <a:xfrm>
            <a:off x="611280" y="692280"/>
            <a:ext cx="7921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24000" y="342720"/>
            <a:ext cx="8686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КАРАКТЕРИСТИКЕ РАСТА И РАЗВОЈ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9280" y="1628640"/>
            <a:ext cx="828036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1. Психички разво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2. Физички развој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8000">
    <p:push dir="r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2"/>
          <p:cNvSpPr/>
          <p:nvPr/>
        </p:nvSpPr>
        <p:spPr>
          <a:xfrm>
            <a:off x="611280" y="692280"/>
            <a:ext cx="7921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9280" y="642960"/>
            <a:ext cx="8280360" cy="51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nb-NO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актеристике </a:t>
            </a:r>
            <a:r>
              <a:rPr b="1" lang="nb-NO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ичког</a:t>
            </a:r>
            <a:r>
              <a:rPr b="0" lang="nb-NO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ста и развој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nb-NO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1" lang="nb-NO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тропометријски</a:t>
            </a:r>
            <a:r>
              <a:rPr b="0" lang="nb-NO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ст и развој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nb-NO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1" lang="nb-NO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сцерални</a:t>
            </a:r>
            <a:r>
              <a:rPr b="0" lang="nb-NO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звој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nb-NO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1" lang="nb-NO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Биолошки </a:t>
            </a:r>
            <a:r>
              <a:rPr b="0" lang="nb-NO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 и развој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10000">
    <p:push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2"/>
          <p:cNvSpPr/>
          <p:nvPr/>
        </p:nvSpPr>
        <p:spPr>
          <a:xfrm>
            <a:off x="611280" y="692280"/>
            <a:ext cx="7921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9280" y="642960"/>
            <a:ext cx="8280360" cy="51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тропометријски</a:t>
            </a:r>
            <a:r>
              <a:rPr b="0" lang="nb-NO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ст и развој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it-IT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1" lang="it-IT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татурални </a:t>
            </a:r>
            <a:r>
              <a:rPr b="0" lang="it-IT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 (телесна висина-</a:t>
            </a:r>
            <a:r>
              <a:rPr b="1" lang="it-IT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в</a:t>
            </a:r>
            <a:r>
              <a:rPr b="0" lang="it-IT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</a:t>
            </a:r>
            <a:r>
              <a:rPr b="0" lang="it-IT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1" lang="it-IT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ндерални</a:t>
            </a:r>
            <a:r>
              <a:rPr b="0" lang="it-IT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ст (телесна маса-</a:t>
            </a:r>
            <a:r>
              <a:rPr b="1" lang="it-IT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т</a:t>
            </a:r>
            <a:r>
              <a:rPr b="0" lang="it-IT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r>
              <a:rPr b="0" lang="it-IT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1" lang="it-IT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 грудног кош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26000">
    <p:push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2"/>
          <p:cNvSpPr/>
          <p:nvPr/>
        </p:nvSpPr>
        <p:spPr>
          <a:xfrm>
            <a:off x="611280" y="692280"/>
            <a:ext cx="7921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39280" y="-360"/>
            <a:ext cx="8280360" cy="638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. </a:t>
            </a:r>
            <a:r>
              <a:rPr b="1" lang="it-IT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турални раст</a:t>
            </a:r>
            <a:r>
              <a:rPr b="0" lang="it-IT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телесна висина-ТВ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ком људског живота постоје само</a:t>
            </a:r>
            <a:r>
              <a:rPr b="0" lang="sr-Latn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Latn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иода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зог раста</a:t>
            </a:r>
            <a:r>
              <a:rPr b="0" lang="sr-Latn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 рођења до 2 </a:t>
            </a:r>
            <a:r>
              <a:rPr b="0" lang="pt-BR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дине живота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препубертету</a:t>
            </a:r>
            <a:r>
              <a:rPr b="1" lang="sr-Latn-R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0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дина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војчице</a:t>
            </a:r>
            <a:r>
              <a:rPr b="0" lang="sr-Latn-R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sr-Latn-R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дина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чаци</a:t>
            </a:r>
            <a:r>
              <a:rPr b="0" lang="sr-Latn-R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међу ових фаза је фаза интермедијарног спорог раста</a:t>
            </a:r>
            <a:r>
              <a:rPr b="0" lang="sr-Latn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 се завршава између 21 и 25 године живота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ше је изражен лет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. </a:t>
            </a:r>
            <a:r>
              <a:rPr b="1" lang="it-IT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ндерални раст </a:t>
            </a:r>
            <a:r>
              <a:rPr b="0" lang="it-IT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телесна маса-ТТ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ндерални раст прати статурални раст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јвећи у апсолутним вредностима је између 13 и 16 године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ше је изражен зими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.</a:t>
            </a:r>
            <a:r>
              <a:rPr b="1" lang="sr-Latn-R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it-IT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 грудног коша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дни кош до пубертета расте спорије од бисте,  у пубертету и касније расте прогресивно са растом бисте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104000">
    <p:push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2"/>
          <p:cNvSpPr/>
          <p:nvPr/>
        </p:nvSpPr>
        <p:spPr>
          <a:xfrm>
            <a:off x="611280" y="692280"/>
            <a:ext cx="7921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39280" y="188640"/>
            <a:ext cx="8280360" cy="563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сцерални разво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.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еспираторни систе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.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ардиоваскуларни систе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. 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спираторни систе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 развој респираторног система настаје тек по завршетку пубертет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 пубертета сва деца абдоминално дишу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 пубертета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војчице дишу горњокосталним типо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чаци дишу доњокосталним типо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.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диоваскуларни систе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3 и 4 години живота величина срца се 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остручиј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сније се раст срца успорава и у телу одраслог човека се налази “дечије срце”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61000">
    <p:push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611280" y="692280"/>
            <a:ext cx="7921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39280" y="571680"/>
            <a:ext cx="8209080" cy="52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it-IT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1" lang="it-IT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олошки раст и развоj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ставља</a:t>
            </a:r>
            <a:r>
              <a:rPr b="0" lang="it-IT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ериод у коме су поодмакли процеси антропометријског и висцералног раста и развоја и када се стичу особине које омогућавају репродукцију.</a:t>
            </a:r>
            <a:r>
              <a:rPr b="0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it-IT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ва манифестација овог раста је пубертет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</a:t>
            </a:r>
            <a:r>
              <a:rPr b="0" lang="sr-Latn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шке карактеристике пубертета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мене физичке особ</a:t>
            </a:r>
            <a:r>
              <a:rPr b="1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но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тација</a:t>
            </a: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лас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склад између статуралног и пондералног раст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 карличних костију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49000">
    <p:push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3"/>
          <p:cNvSpPr/>
          <p:nvPr/>
        </p:nvSpPr>
        <p:spPr>
          <a:xfrm>
            <a:off x="0" y="0"/>
            <a:ext cx="9144000" cy="55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одела намирница по порекл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Биљног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порекл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Житарице и производ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Поврћ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Воћ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Гљив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Животињског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порекл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есо, риба, јај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леко и производ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асти и уљ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ктори раста и развоја</a:t>
            </a:r>
            <a:br>
              <a:rPr sz="4400"/>
            </a:br>
            <a:r>
              <a:rPr b="1" lang="sr-R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ојни поремећај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ктори</a:t>
            </a:r>
            <a:r>
              <a:rPr b="0" lang="sr-Latn-C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а</a:t>
            </a:r>
            <a:r>
              <a:rPr b="0" lang="sr-Latn-C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оја</a:t>
            </a:r>
            <a:r>
              <a:rPr b="0" lang="sr-Latn-C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це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ндоген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гзоген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ојни</a:t>
            </a:r>
            <a:r>
              <a:rPr b="1" lang="sr-Latn-C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R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емећаји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285840"/>
            <a:ext cx="7772400" cy="70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Дефиниција</a:t>
            </a:r>
            <a:r>
              <a:rPr b="0" lang="en-US" sz="4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</a:t>
            </a:r>
            <a:r>
              <a:rPr b="0" lang="sr-RS" sz="4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и</a:t>
            </a:r>
            <a:r>
              <a:rPr b="0" lang="en-US" sz="4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</a:t>
            </a:r>
            <a:r>
              <a:rPr b="0" lang="sr-RS" sz="4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етиологиј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85800" y="1219320"/>
            <a:ext cx="7772400" cy="470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емећај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ј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ављај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ређеном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иод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к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ој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ц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ј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сто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поравај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метај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њихов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ој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ивај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ојн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емећај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ључуј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сихолоск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ичк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емећај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огим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учајевим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зрок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танк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емећај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тај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познат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гућ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г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тат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лед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јства следећих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ктор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ледн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ктор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штећењ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тал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мбрионалном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ој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достатак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сеоник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ођај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виш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л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жин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ђењ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штећењ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зг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зрокован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редам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им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ољењим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зг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-360" y="285480"/>
            <a:ext cx="8991720" cy="39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6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Класификација</a:t>
            </a:r>
            <a:r>
              <a:rPr b="1" lang="sr-Latn-CS" sz="36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</a:t>
            </a:r>
            <a:r>
              <a:rPr b="1" lang="sr-RS" sz="36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развојних</a:t>
            </a:r>
            <a:r>
              <a:rPr b="1" lang="sr-Latn-CS" sz="36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</a:t>
            </a:r>
            <a:r>
              <a:rPr b="1" lang="sr-RS" sz="36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поремећ</a:t>
            </a:r>
            <a:r>
              <a:rPr b="1" lang="sr-Latn-CS" sz="36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aja</a:t>
            </a:r>
            <a:r>
              <a:rPr b="0" lang="en-US" sz="36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685440" y="762120"/>
            <a:ext cx="80773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штећења</a:t>
            </a:r>
            <a:r>
              <a:rPr b="1" lang="sr-Latn-CS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sr-RS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ензорних</a:t>
            </a:r>
            <a:r>
              <a:rPr b="1" lang="sr-Latn-CS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sr-RS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функција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штећења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а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штећења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уха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емећај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тилне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етљивос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оремећаји</a:t>
            </a:r>
            <a:r>
              <a:rPr b="1" lang="sr-Latn-CS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sr-RS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когнитивних</a:t>
            </a:r>
            <a:r>
              <a:rPr b="1" lang="sr-Latn-CS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sr-RS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функција</a:t>
            </a:r>
            <a:r>
              <a:rPr b="1" lang="sr-Latn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емећаји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лигенције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емећаји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жње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емећаји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цептивних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ункциј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RS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оремећаји</a:t>
            </a:r>
            <a:r>
              <a:rPr b="1" lang="sr-Latn-CS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sr-RS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локомоторних</a:t>
            </a:r>
            <a:r>
              <a:rPr b="1" lang="sr-Latn-CS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sr-RS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функциј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ји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хватају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емећаје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ји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ромитују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етање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уникацију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sr-R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ета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sr-R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ребрална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рализа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R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шићна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строфија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R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ојни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емећаји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кова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.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RS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оремећаји</a:t>
            </a:r>
            <a:r>
              <a:rPr b="1" lang="sr-Latn-CS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sr-RS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моторне</a:t>
            </a:r>
            <a:r>
              <a:rPr b="1" lang="sr-Latn-CS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sr-RS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функције</a:t>
            </a:r>
            <a:r>
              <a:rPr b="1" lang="sr-Latn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ндром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спретног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ета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ојни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емећај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ординације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ојна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спраксиј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Хронична</a:t>
            </a:r>
            <a:r>
              <a:rPr b="1" lang="sr-Latn-CS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sr-RS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бољења</a:t>
            </a:r>
            <a:r>
              <a:rPr b="1" lang="sr-Latn-CS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sr-RS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детет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Тежи</a:t>
            </a:r>
            <a:r>
              <a:rPr b="1" lang="sr-Latn-CS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sr-RS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емоционални</a:t>
            </a:r>
            <a:r>
              <a:rPr b="1" lang="sr-Latn-CS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sr-RS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оремећај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Тежи</a:t>
            </a:r>
            <a:r>
              <a:rPr b="1" lang="sr-Latn-CS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sr-RS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оремећаји</a:t>
            </a:r>
            <a:r>
              <a:rPr b="1" lang="sr-Latn-CS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sr-RS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оциализације</a:t>
            </a:r>
            <a:r>
              <a:rPr b="1" lang="sr-Latn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перактивно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е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поактивно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е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гресивно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Комбиноване</a:t>
            </a:r>
            <a:r>
              <a:rPr b="1" lang="sr-Latn-CS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sr-RS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метњ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2"/>
          <p:cNvSpPr/>
          <p:nvPr/>
        </p:nvSpPr>
        <p:spPr>
          <a:xfrm>
            <a:off x="611280" y="692280"/>
            <a:ext cx="7921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539280" y="785520"/>
            <a:ext cx="8209080" cy="503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nb-NO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актеристике обољевања школске деце и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nb-NO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младине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разна обољењ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заразна обољењ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тала обољењ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12000">
    <p:push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2"/>
          <p:cNvSpPr/>
          <p:nvPr/>
        </p:nvSpPr>
        <p:spPr>
          <a:xfrm>
            <a:off x="611280" y="692280"/>
            <a:ext cx="7921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000" spc="-1" strike="noStrike">
                <a:solidFill>
                  <a:srgbClr val="000000"/>
                </a:solidFill>
                <a:latin typeface="Times New Roman"/>
              </a:rPr>
              <a:t>Заразне болести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539280" y="1628640"/>
            <a:ext cx="57610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2400" spc="-1" strike="noStrike">
                <a:solidFill>
                  <a:srgbClr val="000000"/>
                </a:solidFill>
                <a:latin typeface="Times New Roman"/>
              </a:rPr>
              <a:t>Вирусне болес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rbil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ubell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ricell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otiti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patiti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onukleos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ip i d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 Box 7"/>
          <p:cNvSpPr/>
          <p:nvPr/>
        </p:nvSpPr>
        <p:spPr>
          <a:xfrm>
            <a:off x="3851280" y="1643040"/>
            <a:ext cx="5292720" cy="32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R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i="1" lang="sr-RS" sz="2400" spc="-1" strike="noStrike">
                <a:solidFill>
                  <a:srgbClr val="000000"/>
                </a:solidFill>
                <a:latin typeface="Times New Roman"/>
              </a:rPr>
              <a:t>Бактеријске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sr-RS" sz="2400" spc="-1" strike="noStrike">
                <a:solidFill>
                  <a:srgbClr val="000000"/>
                </a:solidFill>
                <a:latin typeface="Times New Roman"/>
              </a:rPr>
              <a:t>болест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epto i stafilokokne infekci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ningit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fus, paratif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tusis i d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B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c050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34000">
    <p:push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2"/>
          <p:cNvSpPr/>
          <p:nvPr/>
        </p:nvSpPr>
        <p:spPr>
          <a:xfrm>
            <a:off x="611280" y="692280"/>
            <a:ext cx="7921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39280" y="1628640"/>
            <a:ext cx="57610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Bolesti ras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nizam (prividni, stvarni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žinovski ras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ršavos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jaznos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ifoz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kolioz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formiteti donjih ekstremite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opi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remećaji sluh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Text Box 5"/>
          <p:cNvSpPr/>
          <p:nvPr/>
        </p:nvSpPr>
        <p:spPr>
          <a:xfrm>
            <a:off x="4572000" y="1214280"/>
            <a:ext cx="414036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Poremećaji organa i siste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V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ongenitalna kardiopati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umatska kariopati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terijalna hipertenzi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italni orga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moz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stikularna ektopi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buminuri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rmitentna (povoljn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ronič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tostatsk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jabe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ergij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094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4000" spc="-1" strike="noStrike">
                <a:solidFill>
                  <a:srgbClr val="000000"/>
                </a:solidFill>
                <a:latin typeface="Times New Roman"/>
              </a:rPr>
              <a:t>Незаразне болести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55000">
    <p:push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2"/>
          <p:cNvSpPr/>
          <p:nvPr/>
        </p:nvSpPr>
        <p:spPr>
          <a:xfrm>
            <a:off x="611280" y="692280"/>
            <a:ext cx="7921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094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sr-RS" sz="4000" spc="-1" strike="noStrike">
                <a:solidFill>
                  <a:srgbClr val="000000"/>
                </a:solidFill>
                <a:latin typeface="Times New Roman"/>
              </a:rPr>
              <a:t>Незаразне болести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99680" y="1500120"/>
            <a:ext cx="57610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. Poremećaji govora, čitanja i pisan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canj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leksi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ortografi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xt Box 5"/>
          <p:cNvSpPr/>
          <p:nvPr/>
        </p:nvSpPr>
        <p:spPr>
          <a:xfrm>
            <a:off x="5076720" y="1989000"/>
            <a:ext cx="38512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. Anomalije psihičkog razvo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remećaji intelek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remećaji karakte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permotivisan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anoičan karak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stabilnost mentalna i/ili motoričk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6000">
    <p:push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2"/>
          <p:cNvSpPr/>
          <p:nvPr/>
        </p:nvSpPr>
        <p:spPr>
          <a:xfrm>
            <a:off x="611280" y="692280"/>
            <a:ext cx="7921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539640" y="1213920"/>
            <a:ext cx="8136000" cy="48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žne bolest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kab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rmatomikoz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etigo contagios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šljivo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zitarne bolest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mint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tozo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тале болести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7000">
    <p:push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3"/>
          <p:cNvSpPr/>
          <p:nvPr/>
        </p:nvSpPr>
        <p:spPr>
          <a:xfrm>
            <a:off x="0" y="0"/>
            <a:ext cx="9144000" cy="753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Житарице и производ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Житарице, жита ил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церeалије су зрели плодoви култив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аних биљакa у које спадaју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шениц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Ра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Јечам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ир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на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Кук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руз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Овас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и др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Садрж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до 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80% угљених хидрат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8-16% протеи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2-7% маст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минералне материје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калцијум, фосфор, гвожђе, бакар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витамине: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Б</a:t>
            </a:r>
            <a:r>
              <a:rPr b="0" i="1" lang="sr-RS" sz="2400" spc="-1" strike="noStrike">
                <a:solidFill>
                  <a:srgbClr val="000000"/>
                </a:solidFill>
                <a:latin typeface="Times New Roman"/>
              </a:rPr>
              <a:t>е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 групе, Е и Д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Производи од житарица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су :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Брашно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Хлеб и пецив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2"/>
          <p:cNvSpPr/>
          <p:nvPr/>
        </p:nvSpPr>
        <p:spPr>
          <a:xfrm>
            <a:off x="142920" y="285840"/>
            <a:ext cx="835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Биљног </a:t>
            </a:r>
            <a:r>
              <a:rPr b="1" lang="sr-RS" sz="3600" spc="-1" strike="noStrike">
                <a:solidFill>
                  <a:srgbClr val="000000"/>
                </a:solidFill>
                <a:latin typeface="Times New Roman"/>
              </a:rPr>
              <a:t>порекл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2"/>
          <p:cNvSpPr/>
          <p:nvPr/>
        </p:nvSpPr>
        <p:spPr>
          <a:xfrm>
            <a:off x="611280" y="692280"/>
            <a:ext cx="7921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686800" cy="54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ктори ризика из школске средине </a:t>
            </a:r>
            <a:r>
              <a:rPr b="1" lang="sr-R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 утицајем</a:t>
            </a:r>
            <a:r>
              <a:rPr b="1" lang="sr-Latn-R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R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</a:t>
            </a:r>
            <a:r>
              <a:rPr b="1" lang="sr-Latn-R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равље деце и омладине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9640" y="1000080"/>
            <a:ext cx="8136000" cy="481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-533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Школска зград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Учиониц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Намештај и прибор за рад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Осветљењ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Санитарни чво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Хигијена настав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20000">
    <p:push dir="r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2"/>
          <p:cNvSpPr/>
          <p:nvPr/>
        </p:nvSpPr>
        <p:spPr>
          <a:xfrm>
            <a:off x="611280" y="692280"/>
            <a:ext cx="7921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9640" y="404640"/>
            <a:ext cx="8136000" cy="604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колска зград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ида се за најмање 20 до 30 годин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изградњи школске зграде битно је обратити пажњу на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кацију и положај објект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емљишт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струкцију зград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држај просториј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љеност од главних саобраћајница најмање </a:t>
            </a:r>
            <a:r>
              <a:rPr b="1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m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1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држај просториј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ониц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ба за наставнике (зборница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ардероб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бинети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ика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емија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ологија и др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ла за физичко васпитањ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хиња са трпезаријо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нитарни чвор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79000">
    <p:push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2"/>
          <p:cNvSpPr/>
          <p:nvPr/>
        </p:nvSpPr>
        <p:spPr>
          <a:xfrm>
            <a:off x="611280" y="692280"/>
            <a:ext cx="7921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0" y="115920"/>
            <a:ext cx="8964720" cy="674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мештај и прибор за рад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колска клупа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СТАНЦА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станца је растојање између вертикале спуштене са предње стране ивице стола и предње ивице столице</a:t>
            </a:r>
            <a:r>
              <a:rPr b="1" lang="sr-Latn-R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е бити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just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итивна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приликом стајања),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just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гативна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приликом писања, читања),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just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улта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приликом слушања предавања)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ФЕРЕНЦА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ференца је вертикално или косо растојање између предње страње ивице стола и столице</a:t>
            </a:r>
            <a:r>
              <a:rPr b="1" lang="sr-Latn-R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</a:t>
            </a:r>
            <a:r>
              <a:rPr b="0" lang="fr-L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рматив је да је</a:t>
            </a:r>
            <a:r>
              <a:rPr b="0" lang="sr-Latn-R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2,5% </a:t>
            </a:r>
            <a:r>
              <a:rPr b="0" lang="fr-L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В ученика плус</a:t>
            </a:r>
            <a:r>
              <a:rPr b="0" lang="sr-Latn-R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-4</a:t>
            </a:r>
            <a:r>
              <a:rPr b="0" lang="fr-L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m</a:t>
            </a:r>
            <a:r>
              <a:rPr b="0" lang="sr-Latn-R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</a:t>
            </a:r>
            <a:r>
              <a:rPr b="0" lang="pt-BR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јчешће се среће диференца која је </a:t>
            </a:r>
            <a:r>
              <a:rPr b="1" lang="pt-BR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% ТВ дечака и17% ТВ девојчица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79000">
    <p:push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5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fr-L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fr-L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колска табла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fr-L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рматив</a:t>
            </a:r>
            <a:r>
              <a:rPr b="0" lang="sr-R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fr-L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тка, равна, без пукотина,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рне или зелене боје,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ксирана или покретна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сте осветљења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родно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штачко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хтеви за организацију наставе и учења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четак наставе у првом разреду од</a:t>
            </a:r>
            <a:r>
              <a:rPr b="0" lang="sr-Latn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9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ти</a:t>
            </a:r>
            <a:r>
              <a:rPr b="0" lang="sr-Latn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касније од</a:t>
            </a:r>
            <a:r>
              <a:rPr b="0" lang="sr-Latn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8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т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маће задатке не треба давати деци испод 10 година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море давати после сваког часа од 10 мин, осим после 3 часа 30 мин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</a:t>
            </a:r>
            <a:r>
              <a:rPr b="0" lang="sr-Latn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дмете распоредити на почетку наставе средње тешки предмети, тешки, </a:t>
            </a: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крају </a:t>
            </a:r>
            <a:r>
              <a:rPr b="0" lang="sr-Latn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аки предмети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23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НТАЛНА ХИГИЈЕНА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000000"/>
                </a:solidFill>
                <a:latin typeface="Calibri"/>
              </a:rPr>
              <a:t>Концепт менталног здравља и менталне болест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тска здравствена организација дефинише ментално здравље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о стање социјалног и емотивног благостања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коме особа остварује све своје способности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е да подносе све животне стресове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дуктивно и плодно ради 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приноси својој заједниц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W</a:t>
            </a:r>
            <a:r>
              <a:rPr b="0" lang="sr-Latn-RS" sz="15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sr-CS" sz="1500" spc="-1" strike="noStrike">
                <a:solidFill>
                  <a:srgbClr val="000000"/>
                </a:solidFill>
                <a:latin typeface="Calibri"/>
              </a:rPr>
              <a:t>О</a:t>
            </a:r>
            <a:r>
              <a:rPr b="0" lang="sr-RS" sz="15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2001</a:t>
            </a:r>
            <a:r>
              <a:rPr b="0" lang="sr-RS" sz="15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sr-CS" sz="1500" spc="-1" strike="noStrike">
                <a:solidFill>
                  <a:srgbClr val="000000"/>
                </a:solidFill>
                <a:latin typeface="Calibri"/>
              </a:rPr>
              <a:t>Strengthening mental health promotion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sr-CS" sz="1500" spc="-1" strike="noStrike">
                <a:solidFill>
                  <a:srgbClr val="000000"/>
                </a:solidFill>
                <a:latin typeface="Calibri"/>
              </a:rPr>
              <a:t>Geneva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, W</a:t>
            </a:r>
            <a:r>
              <a:rPr b="0" lang="sr-CS" sz="1500" spc="-1" strike="noStrike">
                <a:solidFill>
                  <a:srgbClr val="000000"/>
                </a:solidFill>
                <a:latin typeface="Calibri"/>
              </a:rPr>
              <a:t>orld Health Organiz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нтална хигијена-дефинициј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нтална хигијена је превентивна медицинска грана која представља скуп мера и специјализованих техника за спречавање менталних болести и унапређење менталног зрављ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2" descr=""/>
          <p:cNvPicPr/>
          <p:nvPr/>
        </p:nvPicPr>
        <p:blipFill>
          <a:blip r:embed="rId1"/>
          <a:stretch/>
        </p:blipFill>
        <p:spPr>
          <a:xfrm>
            <a:off x="611280" y="403200"/>
            <a:ext cx="7993080" cy="572148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2"/>
          <p:cNvSpPr/>
          <p:nvPr/>
        </p:nvSpPr>
        <p:spPr>
          <a:xfrm>
            <a:off x="611280" y="6093000"/>
            <a:ext cx="8064360" cy="5760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sr-RS" sz="1800" spc="-1" strike="noStrike">
                <a:solidFill>
                  <a:srgbClr val="ffffff"/>
                </a:solidFill>
                <a:latin typeface="Calibri"/>
              </a:rPr>
              <a:t>моралност-способност појединца да сам себи изрекне правила којих се придржава (морално расуђивање и морално понашање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чнос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чност- збир свих карактеристика једне особе које одређују њену јединственост и особеност, по чему се она разликује од свих других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чност укључује интелигенцију, темперамент, моралне и вољне елементе као трајне карактеристике јединке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чност се развија и функционише у непрестаном процесу интеракција са средином које са своје стране утичу на њен даљи развој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перамент- брзина, снага и трајање реаговања као и енергија која се при том ангажује и испољава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актер- описује оне аспекте личности који су одређени етичким и мор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ним критеријумима, а испољавају се у социјалним интеракцијама („добар/лош чврст/слаб “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пови личност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228600" y="1125360"/>
            <a:ext cx="8686800" cy="535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ровертне личности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у преосетљиве, повучене у себе, склоне претераној анализи себе и других, у ретком контакту са људим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кстровертне личности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 отворене, спретне у контактима, заинтересоване за друштвене акције, оптимистичне, неосетљиве на критик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грациона личност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ве њене психофизичке функције реагују као целин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зинтеграциона личност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њене психофизичке функције реагују одвојен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3"/>
          <p:cNvSpPr/>
          <p:nvPr/>
        </p:nvSpPr>
        <p:spPr>
          <a:xfrm>
            <a:off x="0" y="0"/>
            <a:ext cx="9144000" cy="74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Times New Roman"/>
              </a:rPr>
              <a:t>                                     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ПОВРЋ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Поврће обухвата плодове и делове повртарских биљака које се уобичајено користе у исхрани људи. То су најчешће: лишће, главице, луковице, кртоле,  махуне или стабло у свежем или прерађеном облику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000000"/>
                </a:solidFill>
                <a:latin typeface="Times New Roman"/>
              </a:rPr>
              <a:t>Подела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 према особинама и хранљивој вредности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 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ртоласто, коренасто и луковичасто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кромпир, шаргарепа, першун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г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лавичасто и лиснато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купус, кељ, карфиол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ахунасто и поврће са плодом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асуљ, грашак, боранија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Поврће садржи 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највише воде, а најмање масти, па му је енергетска вредност мала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Богато је 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минералним материјама (</a:t>
            </a:r>
            <a:r>
              <a:rPr b="1" i="1" lang="fr-FR" sz="2400" spc="-1" strike="noStrike">
                <a:solidFill>
                  <a:srgbClr val="000000"/>
                </a:solidFill>
                <a:latin typeface="Times New Roman"/>
              </a:rPr>
              <a:t>K, Mg, F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и 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витаминима (</a:t>
            </a:r>
            <a:r>
              <a:rPr b="1" i="1" lang="fr-FR" sz="2400" spc="-1" strike="noStrike">
                <a:solidFill>
                  <a:srgbClr val="000000"/>
                </a:solidFill>
                <a:latin typeface="Times New Roman"/>
              </a:rPr>
              <a:t>Бe група, C, A, E, K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380880" y="228600"/>
            <a:ext cx="87631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адиционална –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чност чијим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активностима управља традициј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стална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њом управља њена свест, која одређује њено понашање које је током детињства и касније уграђено у облику одређених вриједности и норм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самостална-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наша се у складу са представом других о њој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утентична личност -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 личност која развија своју индивидуалност и свој сопствени стил, њено понашање је стабилно, великих је интелектуалних способности, окренута ка будућност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аутентична личност -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је личност сасвим супротних особина од аутентичне л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сти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 страх од промена, слепо се веже за друге, несигурна ј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сихички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емећај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 Box 22"/>
          <p:cNvSpPr/>
          <p:nvPr/>
        </p:nvSpPr>
        <p:spPr>
          <a:xfrm>
            <a:off x="6118200" y="1744560"/>
            <a:ext cx="130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Diagram 28"/>
          <p:cNvGrpSpPr/>
          <p:nvPr/>
        </p:nvGrpSpPr>
        <p:grpSpPr>
          <a:xfrm>
            <a:off x="1436400" y="1757160"/>
            <a:ext cx="6274080" cy="3341880"/>
            <a:chOff x="1436400" y="1757160"/>
            <a:chExt cx="6274080" cy="3341880"/>
          </a:xfrm>
        </p:grpSpPr>
        <p:sp>
          <p:nvSpPr>
            <p:cNvPr id="175" name="_s1028"/>
            <p:cNvSpPr/>
            <p:nvPr/>
          </p:nvSpPr>
          <p:spPr>
            <a:xfrm>
              <a:off x="3725640" y="2350800"/>
              <a:ext cx="1697040" cy="1697040"/>
            </a:xfrm>
            <a:prstGeom prst="ellipse">
              <a:avLst/>
            </a:prstGeom>
            <a:solidFill>
              <a:srgbClr val="c0504d">
                <a:alpha val="50000"/>
              </a:srgbClr>
            </a:solidFill>
            <a:ln w="468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_s1029"/>
            <p:cNvSpPr/>
            <p:nvPr/>
          </p:nvSpPr>
          <p:spPr>
            <a:xfrm>
              <a:off x="3725640" y="1757160"/>
              <a:ext cx="1697040" cy="4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RS" sz="3200" spc="-1" strike="noStrike">
                  <a:solidFill>
                    <a:srgbClr val="9966ff"/>
                  </a:solidFill>
                  <a:latin typeface="Times New Roman"/>
                  <a:ea typeface="Arial"/>
                </a:rPr>
                <a:t>наслеђе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_s1030"/>
            <p:cNvSpPr/>
            <p:nvPr/>
          </p:nvSpPr>
          <p:spPr>
            <a:xfrm>
              <a:off x="4284360" y="3319200"/>
              <a:ext cx="1697040" cy="1697040"/>
            </a:xfrm>
            <a:prstGeom prst="ellipse">
              <a:avLst/>
            </a:prstGeom>
            <a:solidFill>
              <a:srgbClr val="0000ff">
                <a:alpha val="50000"/>
              </a:srgbClr>
            </a:solidFill>
            <a:ln w="46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_s1031"/>
            <p:cNvSpPr/>
            <p:nvPr/>
          </p:nvSpPr>
          <p:spPr>
            <a:xfrm>
              <a:off x="6013440" y="4674960"/>
              <a:ext cx="1697040" cy="4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RS" sz="3200" spc="-1" strike="noStrike">
                  <a:solidFill>
                    <a:srgbClr val="ff9900"/>
                  </a:solidFill>
                  <a:latin typeface="Times New Roman"/>
                  <a:ea typeface="Arial"/>
                </a:rPr>
                <a:t>средина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_s1032"/>
            <p:cNvSpPr/>
            <p:nvPr/>
          </p:nvSpPr>
          <p:spPr>
            <a:xfrm>
              <a:off x="3166920" y="3319200"/>
              <a:ext cx="1697040" cy="1697040"/>
            </a:xfrm>
            <a:prstGeom prst="ellipse">
              <a:avLst/>
            </a:prstGeom>
            <a:solidFill>
              <a:srgbClr val="800080">
                <a:alpha val="50000"/>
              </a:srgbClr>
            </a:solidFill>
            <a:ln w="468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_s1033"/>
            <p:cNvSpPr/>
            <p:nvPr/>
          </p:nvSpPr>
          <p:spPr>
            <a:xfrm>
              <a:off x="1436400" y="4674960"/>
              <a:ext cx="1697040" cy="4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RS" sz="3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психичка и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RS" sz="3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физичка траума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ести зависности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151920" y="1600200"/>
            <a:ext cx="8991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кохолиозам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зимање алкохола у том степену да уживаоцима ремети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равље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ладан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р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соналан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ос и психички мир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настанак утичу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слеђе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сихичка конституциј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цијална околина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совна производња алкохолних пића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жак живот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ше материјално стањ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457200" y="1071720"/>
            <a:ext cx="822960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арна </a:t>
            </a:r>
            <a:r>
              <a:rPr b="1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венција</a:t>
            </a:r>
            <a:r>
              <a:rPr b="1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кохолизм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рави</a:t>
            </a:r>
            <a:r>
              <a:rPr b="0" lang="sr-Latn-C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илова</a:t>
            </a:r>
            <a:r>
              <a:rPr b="0" lang="sr-Latn-C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вљења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равствено</a:t>
            </a:r>
            <a:r>
              <a:rPr b="0" lang="sr-Latn-C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спитни</a:t>
            </a:r>
            <a:r>
              <a:rPr b="0" lang="sr-Latn-C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д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кундарна превенција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кривање алкохолизма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чење: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Медикаментозна терапија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Психо терапија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Социо терапија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Радна терапија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цијарна превенциј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социјализациј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sr-C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Наркоманиј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висност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ог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сихич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ич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ела психоактивних супстанц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пресори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Алкохол,седативи,испарљиви растварач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имуланси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Никотин,кокаин,амфетамини,екстаз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ијати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Морфин,хероин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алуциногене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SD,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рихуан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коти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калоид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имулише центар nervus-a vagus-a и еметички цента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малим дозама има стимулативно дејство, док у већим дозама прво изазива стимулацију, а после доводи до депресије нервног система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емијски сличан ацетилхолину, поспешује лучење допамина-изазива осећај задовољства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фекат никотина по системим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Н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тремор, грчеви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спираторн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стимулише дисање и респираторну секрецију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В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брадикардија, касније тахикардија, аритмије, пораст ТА, вазоконстрикција коронарних крвних судова, оштећује зидове артерија, повећава наслаге холесторола, срчани мишић мора јаче да ради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Т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мучнина, повраћање, касније смањена моторна активност желуца и црева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о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жење зеница, касније проширење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тали ефекти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већава гликемију, смањује диурезу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ке</a:t>
            </a:r>
            <a:r>
              <a:rPr b="1" lang="sr-Latn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хемијске</a:t>
            </a:r>
            <a:r>
              <a:rPr b="1" lang="sr-Latn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“</a:t>
            </a:r>
            <a:r>
              <a:rPr b="1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ве</a:t>
            </a:r>
            <a:r>
              <a:rPr b="1" lang="sr-Latn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 </a:t>
            </a:r>
            <a:r>
              <a:rPr b="1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висност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висност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ар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ћу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“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толошко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цкањ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висност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рнет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висност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билног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лефон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висност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левизиј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висност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повин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висност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д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висност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кс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апиј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57200" y="1785960"/>
            <a:ext cx="8229600" cy="430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сихотерапиј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сихофармакотерапиј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циотерапиј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457200" y="380520"/>
            <a:ext cx="784872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рахоспиталне</a:t>
            </a:r>
            <a:r>
              <a:rPr b="1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1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ћне</a:t>
            </a:r>
            <a:r>
              <a:rPr b="1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1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екције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ничке</a:t>
            </a:r>
            <a:r>
              <a:rPr b="1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</a:t>
            </a:r>
            <a:r>
              <a:rPr b="1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зокомијалне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екције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ечене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ком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равка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есника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ници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јмање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48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јема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јвише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ласка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нице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екција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је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ојала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је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ла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иоду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кубације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нутку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јема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есника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</a:t>
            </a: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чење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</a:t>
            </a:r>
            <a:r>
              <a:rPr b="1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чај болничких инфекциј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икације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ничког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чења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ећање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рбидитета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рталитета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ошкова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чењ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ношење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ничких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јева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кроорганизама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нболничку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ину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раву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пулацију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3"/>
          <p:cNvSpPr/>
          <p:nvPr/>
        </p:nvSpPr>
        <p:spPr>
          <a:xfrm>
            <a:off x="0" y="0"/>
            <a:ext cx="9144000" cy="77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ВОЋ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Воће чине посебне биљне врсте</a:t>
            </a:r>
            <a:r>
              <a:rPr b="0" lang="sr-RS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садржи мешавину глукозе, фруктозе и сахарозе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у различитим односима у зависности од врсте воћа.</a:t>
            </a: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 Богато је </a:t>
            </a:r>
            <a:r>
              <a:rPr b="1" lang="fr-FR" sz="3600" spc="-1" strike="noStrike">
                <a:solidFill>
                  <a:srgbClr val="000000"/>
                </a:solidFill>
                <a:latin typeface="Times New Roman"/>
              </a:rPr>
              <a:t>минералним материјама (</a:t>
            </a:r>
            <a:r>
              <a:rPr b="1" i="1" lang="fr-FR" sz="3600" spc="-1" strike="noStrike">
                <a:solidFill>
                  <a:srgbClr val="000000"/>
                </a:solidFill>
                <a:latin typeface="Times New Roman"/>
              </a:rPr>
              <a:t>K, Mg, F</a:t>
            </a:r>
            <a:r>
              <a:rPr b="1" lang="fr-FR" sz="36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и </a:t>
            </a:r>
            <a:r>
              <a:rPr b="1" lang="fr-FR" sz="3600" spc="-1" strike="noStrike">
                <a:solidFill>
                  <a:srgbClr val="000000"/>
                </a:solidFill>
                <a:latin typeface="Times New Roman"/>
              </a:rPr>
              <a:t>витаминима (</a:t>
            </a:r>
            <a:r>
              <a:rPr b="1" i="1" lang="fr-FR" sz="3600" spc="-1" strike="noStrike">
                <a:solidFill>
                  <a:srgbClr val="000000"/>
                </a:solidFill>
                <a:latin typeface="Times New Roman"/>
              </a:rPr>
              <a:t>C, A</a:t>
            </a:r>
            <a:r>
              <a:rPr b="1" lang="fr-FR" sz="36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1" lang="nl-NL" sz="3600" spc="-1" strike="noStrike">
                <a:solidFill>
                  <a:srgbClr val="000000"/>
                </a:solidFill>
                <a:latin typeface="Times New Roman"/>
              </a:rPr>
              <a:t>ГЉИВ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Times New Roman"/>
              </a:rPr>
              <a:t>Биолошки су врло вредне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Times New Roman"/>
              </a:rPr>
              <a:t>Користе се због специфичног укуса и мириса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Times New Roman"/>
              </a:rPr>
              <a:t>Садржај протеина до 2%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5"/>
          <p:cNvSpPr/>
          <p:nvPr/>
        </p:nvSpPr>
        <p:spPr>
          <a:xfrm>
            <a:off x="503280" y="457200"/>
            <a:ext cx="7848720" cy="66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гу оболети болесници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ничко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љ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кар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ицинск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стр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хничар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ничар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љ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ужено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ран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љ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ужено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шћењ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...)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етиоци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удент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ктори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зика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танак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рахоспиталних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екциј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унокомпромитован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цијент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руршк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рвенциј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н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тетер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спиратор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гих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струменат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ј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ушавају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пителн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ријер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ужин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равк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ниц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тибиотск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апиј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&gt; 10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н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1182600" y="304920"/>
            <a:ext cx="77724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екло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рахоспиталних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екциј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ндоген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кроорганизм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рмалн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лор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есник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есник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ос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ниц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гзоген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кроорганизм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ич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љашњ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ин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ничко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ље,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есници,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етиоци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ничко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ружењ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ансмисиј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зрочник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рахоспиталних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екциј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ректна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акт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к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ничког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љ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директн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контаминирани предмети - опрема и инструмен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зрочници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рахоспиталних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екција</a:t>
            </a:r>
            <a:br>
              <a:rPr sz="29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143000" y="837720"/>
            <a:ext cx="777240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ктериј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рус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љив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це,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тозо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јважније </a:t>
            </a:r>
            <a:r>
              <a:rPr b="1" i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ктерије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зрочници болничких инфекциј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м позитивне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phylococcus aureu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агулаза негативне стафилокок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erococcus spp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м негативне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cherichia col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тале опортунистичке ентеробактерије (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lebsiella spp., Serratia spp.,...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seudomonas aeruginos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тале неферментативне (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inetobacter spp.,...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380520" y="228600"/>
            <a:ext cx="857412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јважнији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руси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зрочници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ничких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екциј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нос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здухом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rus influenza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iratorni sincicijalni viru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rus parainfluenza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cella-Zoster virus (VZV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нос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ректним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актом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зијам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ж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SV1, HSV2, VZV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нос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ко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алним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те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tavirusi i norovirus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Norwalk-like viru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нос путем крви, крвних продуката или контаминираним инструментим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rus humane imunodeficijencije (HIV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patitis B virus (HBV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patitis C virus (HCV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1182600" y="228240"/>
            <a:ext cx="777240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јважније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љивице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зрочници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рахоспиталних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екциј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васниц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dida spp. (C. albicans, C. tropicalis, C. glabrata, C. parapsilosis, C. krusei, C. lusitanae,...), Malassezia furfur, M. pachydermatis,Trichosporon beigeli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есн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pergillus spp., Penicillium spp., Acremonium spp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cora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hizopus spp., Mucor spp., Absidia spp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1219320" y="151920"/>
            <a:ext cx="7772400" cy="67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венција</a:t>
            </a:r>
            <a:r>
              <a:rPr b="1" lang="sr-Latn-C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1" lang="sr-Latn-C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рола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ње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ку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отреба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штитне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еће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ски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кавица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ишење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струмената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днократну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отребу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ерилизација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струмената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зинфекција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ршина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здуха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но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лагање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аминираног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ријала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ви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олација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цијената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екцијом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тективна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олација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олација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унокомпромитованих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цијената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ескличавање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ничког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ља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унизација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ничког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ља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цијената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соком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зику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тавируси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В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луенца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...)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тибиотска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филакса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рола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ви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вних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дуката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а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ужена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ћење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ролу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ничких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екција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2"/>
          <p:cNvSpPr/>
          <p:nvPr/>
        </p:nvSpPr>
        <p:spPr>
          <a:xfrm>
            <a:off x="0" y="167652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Times New Roman"/>
              </a:rPr>
              <a:t>НАМИРНИЦЕ ЖИВОТИЊСКОГ ПОРЕКЛ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3"/>
          <p:cNvSpPr/>
          <p:nvPr/>
        </p:nvSpPr>
        <p:spPr>
          <a:xfrm>
            <a:off x="0" y="0"/>
            <a:ext cx="9144000" cy="820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6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nl-NL" sz="3600" spc="-1" strike="noStrike">
                <a:solidFill>
                  <a:srgbClr val="000000"/>
                </a:solidFill>
                <a:latin typeface="Times New Roman"/>
              </a:rPr>
              <a:t>МЕСО И МЕСН</a:t>
            </a:r>
            <a:r>
              <a:rPr b="1" lang="sr-RS" sz="3600" spc="-1" strike="noStrike">
                <a:solidFill>
                  <a:srgbClr val="000000"/>
                </a:solidFill>
                <a:latin typeface="Times New Roman"/>
              </a:rPr>
              <a:t>Е</a:t>
            </a:r>
            <a:r>
              <a:rPr b="1" lang="nl-NL" sz="3600" spc="-1" strike="noStrike">
                <a:solidFill>
                  <a:srgbClr val="000000"/>
                </a:solidFill>
                <a:latin typeface="Times New Roman"/>
              </a:rPr>
              <a:t> ПРАЂЕВИН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Times New Roman"/>
              </a:rPr>
              <a:t>Месо и месн</a:t>
            </a:r>
            <a:r>
              <a:rPr b="0" lang="sr-RS" sz="3600" spc="-1" strike="noStrike">
                <a:solidFill>
                  <a:srgbClr val="000000"/>
                </a:solidFill>
                <a:latin typeface="Times New Roman"/>
              </a:rPr>
              <a:t>е</a:t>
            </a:r>
            <a:r>
              <a:rPr b="0" lang="nl-NL" sz="3600" spc="-1" strike="noStrike">
                <a:solidFill>
                  <a:srgbClr val="000000"/>
                </a:solidFill>
                <a:latin typeface="Times New Roman"/>
              </a:rPr>
              <a:t> пре</a:t>
            </a:r>
            <a:r>
              <a:rPr b="0" lang="sr-RS" sz="3600" spc="-1" strike="noStrike">
                <a:solidFill>
                  <a:srgbClr val="000000"/>
                </a:solidFill>
                <a:latin typeface="Times New Roman"/>
              </a:rPr>
              <a:t>р</a:t>
            </a:r>
            <a:r>
              <a:rPr b="0" lang="nl-NL" sz="3600" spc="-1" strike="noStrike">
                <a:solidFill>
                  <a:srgbClr val="000000"/>
                </a:solidFill>
                <a:latin typeface="Times New Roman"/>
              </a:rPr>
              <a:t>ађевине су </a:t>
            </a:r>
            <a:r>
              <a:rPr b="0" lang="sr-RS" sz="36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0" lang="nl-NL" sz="3600" spc="-1" strike="noStrike">
                <a:solidFill>
                  <a:srgbClr val="000000"/>
                </a:solidFill>
                <a:latin typeface="Times New Roman"/>
              </a:rPr>
              <a:t>ирови </a:t>
            </a:r>
            <a:r>
              <a:rPr b="0" lang="sr-RS" sz="36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nl-NL" sz="3600" spc="-1" strike="noStrike">
                <a:solidFill>
                  <a:srgbClr val="000000"/>
                </a:solidFill>
                <a:latin typeface="Times New Roman"/>
              </a:rPr>
              <a:t>ли пре</a:t>
            </a:r>
            <a:r>
              <a:rPr b="0" lang="sr-RS" sz="3600" spc="-1" strike="noStrike">
                <a:solidFill>
                  <a:srgbClr val="000000"/>
                </a:solidFill>
                <a:latin typeface="Times New Roman"/>
              </a:rPr>
              <a:t>р</a:t>
            </a:r>
            <a:r>
              <a:rPr b="0" lang="nl-NL" sz="3600" spc="-1" strike="noStrike">
                <a:solidFill>
                  <a:srgbClr val="000000"/>
                </a:solidFill>
                <a:latin typeface="Times New Roman"/>
              </a:rPr>
              <a:t>ађени делови ж</a:t>
            </a:r>
            <a:r>
              <a:rPr b="0" lang="sr-RS" sz="36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nl-NL" sz="3600" spc="-1" strike="noStrike">
                <a:solidFill>
                  <a:srgbClr val="000000"/>
                </a:solidFill>
                <a:latin typeface="Times New Roman"/>
              </a:rPr>
              <a:t>вотиња који се користе у исхрани људи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Може бити о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R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nl-NL" sz="2800" spc="-1" strike="noStrike">
                <a:solidFill>
                  <a:srgbClr val="000000"/>
                </a:solidFill>
                <a:latin typeface="Times New Roman"/>
              </a:rPr>
              <a:t>Домаћих животињ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(говеђе, свињско, кокошије)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nl-NL" sz="2800" spc="-1" strike="noStrike">
                <a:solidFill>
                  <a:srgbClr val="000000"/>
                </a:solidFill>
                <a:latin typeface="Times New Roman"/>
              </a:rPr>
              <a:t>Дивљих животињ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(срнеће, дивље свиње, фазанско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Просечно месо садрж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nl-NL" sz="2800" spc="-1" strike="noStrike">
                <a:solidFill>
                  <a:srgbClr val="000000"/>
                </a:solidFill>
                <a:latin typeface="Times New Roman"/>
              </a:rPr>
              <a:t>50-70% воде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nl-NL" sz="2800" spc="-1" strike="noStrike">
                <a:solidFill>
                  <a:srgbClr val="000000"/>
                </a:solidFill>
                <a:latin typeface="Times New Roman"/>
              </a:rPr>
              <a:t>15-20% беланчевина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nl-NL" sz="2800" spc="-1" strike="noStrike">
                <a:solidFill>
                  <a:srgbClr val="000000"/>
                </a:solidFill>
                <a:latin typeface="Times New Roman"/>
              </a:rPr>
              <a:t>2-50% масти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инерал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материје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(K, F, Mg, Fe, Co, Cu, Zn)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итам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не (B grupe, A 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3"/>
          <p:cNvSpPr/>
          <p:nvPr/>
        </p:nvSpPr>
        <p:spPr>
          <a:xfrm>
            <a:off x="0" y="0"/>
            <a:ext cx="9144000" cy="69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РИБЕ И ПР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О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ИЗВОДИ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Рибе су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богате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есенцијалним аминокиселинама 16-23%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главни извор Ј, мањеCa, Na, Z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Подел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Риба може бити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Бела риба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слић, пастрмк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низак 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садржај масти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до 4%), а висок воде (74-80%)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Масна риба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скуш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шаран, лосос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висок 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садржај масти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до 10%) а нижи воде (до 70%)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Шкољке и раков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2T07:49:33Z</dcterms:created>
  <dc:creator>Windows User</dc:creator>
  <dc:description/>
  <dc:language>en-US</dc:language>
  <cp:lastModifiedBy>Maja</cp:lastModifiedBy>
  <dcterms:modified xsi:type="dcterms:W3CDTF">2020-09-28T11:36:07Z</dcterms:modified>
  <cp:revision>82</cp:revision>
  <dc:subject/>
  <dc:title>Slide 1</dc:title>
</cp:coreProperties>
</file>